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F083-7637-4E27-9380-5530F530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4169-82B5-4A32-A933-916DFDF6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EDA2-D007-4535-93FA-58442F4A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74FF-6E2E-4F34-AF9D-E5454B2E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910B-FF3B-48C8-83F4-658331D4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85C0-ED24-4A9E-9C6D-339B3BE7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2738-1365-448E-9A2E-0E7D7CEB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C9B7-A8B4-495B-AF2C-421FA0F5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AB16-0E30-4506-AB97-F16E519D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8834-3AED-4553-9C78-3D0DFE0B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673-0E0B-4D9C-B678-EA08ECAA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2849-2F08-4B2F-A07E-050C6AAB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ED7A-2B79-43F7-BE54-0D597457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48A4-8F8E-4E22-ACFC-3E9BCBE6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A9D9-3206-4C34-A0E6-CC121F2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D40A-0F2E-4F60-B97F-7CAC58B1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2937-87F1-4BE3-AD10-1CD5578E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12CB-5A04-4961-8185-4655060F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C8AB-F476-40CA-AD89-97BFBBDA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101D-AAE7-4A19-B543-1E34E871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36EB-6A07-4D36-89B4-9DAD5DD2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EC64-BB7E-4F3E-9A52-40F4E2CA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8E70-9321-4A9B-9156-86E01696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BC62-19B8-4AC1-906D-91086EA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6C38-75CA-4D01-A3D7-DDB1700B9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8604-67D2-4965-86F7-191E16B473A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EEC9-B141-4FB9-B0BE-4E6B6F04805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9B69-A71E-47A1-BCD1-37DD04596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vanban.chinhphu.vn/portal/page/portal/chinhphu/hethongvanban?class_id=1&amp;_page=1&amp;mode=detail&amp;document_id=166075" TargetMode="External"/><Relationship Id="rId2" Type="http://schemas.openxmlformats.org/officeDocument/2006/relationships/hyperlink" Target="http://vanban.chinhphu.vn/portal/page/portal/chinhphu/hethongvanban?class_id=1&amp;_page=1&amp;mode=detail&amp;document_id=166075" TargetMode="External"/><Relationship Id="rId3" Type="http://schemas.openxmlformats.org/officeDocument/2006/relationships/hyperlink" Target="http://vanban.chinhphu.vn/portal/page/portal/chinhphu/hethongvanban?class_id=1&amp;_page=1&amp;mode=detail&amp;document_id=165442" TargetMode="External"/><Relationship Id="rId4" Type="http://schemas.openxmlformats.org/officeDocument/2006/relationships/hyperlink" Target="http://vanban.chinhphu.vn/portal/page/portal/chinhphu/hethongvanban?class_id=1&amp;_page=1&amp;mode=detail&amp;document_id=165872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21EB-0E77-416C-BF6C-89E7963C1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3595-84C9-49E8-B8C8-6992207BB35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0"/>
            <a:ext cx="9067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ƯƠNG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THẢO &amp; TRÌNH BÀ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HÀNH CHÍN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Minus 6"/>
          <p:cNvSpPr/>
          <p:nvPr/>
        </p:nvSpPr>
        <p:spPr>
          <a:xfrm>
            <a:off x="2666880" y="1676520"/>
            <a:ext cx="388620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0EE6-8896-488D-BA12-6232234CD2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B0BC-7F49-4BBF-AF65-55142323860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838080"/>
            <a:ext cx="41148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chế độ, chính sách trong nội bộ tổ chứ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 công tác nhân sự, lao động tiền lương, sản xuất kinh doanh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Horizontal Scroll 5"/>
          <p:cNvSpPr/>
          <p:nvPr/>
        </p:nvSpPr>
        <p:spPr>
          <a:xfrm>
            <a:off x="304920" y="76320"/>
            <a:ext cx="853416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QUYẾT ĐỊNH HÀ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7" name="Picture 2" descr="http://ud.udn.vn/Vanban%5CQD_DHDN%5C2010%5C5342-QD-BGDDT.jpg"/>
          <p:cNvPicPr/>
          <p:nvPr/>
        </p:nvPicPr>
        <p:blipFill>
          <a:blip r:embed="rId1"/>
          <a:stretch/>
        </p:blipFill>
        <p:spPr>
          <a:xfrm>
            <a:off x="4572000" y="838080"/>
            <a:ext cx="4191120" cy="55627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64DA-D91C-4114-8EC7-D6E5701494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F497-E84B-4BEF-8049-C60D141CBAE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457200" y="762120"/>
            <a:ext cx="4114800" cy="5638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iến hành các thủ tục điều tra, truy tố, xét xử các vụ án hình sự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ải quyết các vụ án dân sự, thương mại, hành chính, lao động tại Tòa á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i hành á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2" name="Horizontal Scroll 7"/>
          <p:cNvSpPr/>
          <p:nvPr/>
        </p:nvSpPr>
        <p:spPr>
          <a:xfrm>
            <a:off x="304920" y="0"/>
            <a:ext cx="853416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. QUYẾT ĐỊNH TƯ PHÁ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3" name="Picture 4" descr="http://dantrivn.files.wordpress.com/2012/05/1-quyet-dinh-khoi-to-vu-an.jpg"/>
          <p:cNvPicPr/>
          <p:nvPr/>
        </p:nvPicPr>
        <p:blipFill>
          <a:blip r:embed="rId1"/>
          <a:stretch/>
        </p:blipFill>
        <p:spPr>
          <a:xfrm>
            <a:off x="4686480" y="762120"/>
            <a:ext cx="4076640" cy="56386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6AD7-AA20-454B-9A24-2801052B57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D17E-6927-4EE6-8A50-BB101645E06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6" name="Picture 2" descr="http://3.bp.blogspot.com/_pzFtZGcCch4/TOW7KhiJSBI/AAAAAAAACas/nw_6MZi72Ss/s1600/untitled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2.bp.blogspot.com/_pzFtZGcCch4/TOW8iwKXwBI/AAAAAAAACa8/N2JwBXQxwxg/s1600/untitled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192F-5A67-4F57-9C3F-2F3237F1A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26BB-A737-435B-A9BE-07B08AD9139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81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ịch nước, Thủ tướng Chính phủ, Tổng Kiểm toán Nhà nước, Ủy ban nhân dân các cấ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Horizontal Scroll 6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HẨM QUYỀN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QUYẾT ĐỊNH QPP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" y="4648320"/>
            <a:ext cx="8229600" cy="1676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ười đứng đầu cơ quan, tổ chức, đơn v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Horizontal Scroll 9"/>
          <p:cNvSpPr/>
          <p:nvPr/>
        </p:nvSpPr>
        <p:spPr>
          <a:xfrm>
            <a:off x="380880" y="38862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. QUYẾT ĐỊNH HÀ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F792-370E-4B39-9F75-22B4EB296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1203-85D0-48D1-9ED9-6EE5F58C6EE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rưởng các cơ quan tư pháp: Cơ quan điều tra, Viện kiểm sát, Tòa án, Thi hành á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ác chức danh tư pháp: Điều tra viên, Kiểm sát viên, Thẩm phán, Chấp hành viê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0" name="Horizontal Scroll 5"/>
          <p:cNvSpPr/>
          <p:nvPr/>
        </p:nvSpPr>
        <p:spPr>
          <a:xfrm>
            <a:off x="380880" y="763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. QUYẾT ĐỊNH TƯ PHÁ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28A4-85B2-4A4F-95EC-8DC8E8FE29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6931-AB6A-459E-A4C8-2BE5998D0FF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1447560" cy="41148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Ầ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ẤU TRÚC CỦA QUYẾT ĐỊ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Right Arrow 10"/>
          <p:cNvSpPr/>
          <p:nvPr/>
        </p:nvSpPr>
        <p:spPr>
          <a:xfrm>
            <a:off x="1841400" y="1447920"/>
            <a:ext cx="825480" cy="1676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Right Arrow 11"/>
          <p:cNvSpPr/>
          <p:nvPr/>
        </p:nvSpPr>
        <p:spPr>
          <a:xfrm>
            <a:off x="1841400" y="3886200"/>
            <a:ext cx="825480" cy="1676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Rounded Rectangle 12"/>
          <p:cNvSpPr/>
          <p:nvPr/>
        </p:nvSpPr>
        <p:spPr>
          <a:xfrm>
            <a:off x="2743200" y="1447920"/>
            <a:ext cx="5867280" cy="1676160"/>
          </a:xfrm>
          <a:prstGeom prst="roundRect">
            <a:avLst>
              <a:gd name="adj" fmla="val 30458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9" name="Rounded Rectangle 13"/>
          <p:cNvSpPr/>
          <p:nvPr/>
        </p:nvSpPr>
        <p:spPr>
          <a:xfrm>
            <a:off x="2743200" y="3886200"/>
            <a:ext cx="5867280" cy="1676520"/>
          </a:xfrm>
          <a:prstGeom prst="roundRect">
            <a:avLst>
              <a:gd name="adj" fmla="val 30458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ĐIỀU CHỈ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F582-8554-48A9-923B-E3714B8AC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DD7-38D3-49FD-83BA-1E2E0505BF8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22" name="Group 14"/>
          <p:cNvGrpSpPr/>
          <p:nvPr/>
        </p:nvGrpSpPr>
        <p:grpSpPr>
          <a:xfrm>
            <a:off x="304920" y="1219320"/>
            <a:ext cx="8458200" cy="4952880"/>
            <a:chOff x="304920" y="1219320"/>
            <a:chExt cx="8458200" cy="4952880"/>
          </a:xfrm>
        </p:grpSpPr>
        <p:sp>
          <p:nvSpPr>
            <p:cNvPr id="223" name="Rectangle 4"/>
            <p:cNvSpPr/>
            <p:nvPr/>
          </p:nvSpPr>
          <p:spPr>
            <a:xfrm>
              <a:off x="304920" y="3352680"/>
              <a:ext cx="266688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N HÀNH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3581640" y="2362320"/>
              <a:ext cx="2361960" cy="167616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ÁP LÝ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3581640" y="4419720"/>
              <a:ext cx="236196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ỰC TẾ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6477120" y="1219320"/>
              <a:ext cx="228600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ẨM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UYỀN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6477120" y="3276720"/>
              <a:ext cx="2286000" cy="1752480"/>
            </a:xfrm>
            <a:prstGeom prst="rect">
              <a:avLst/>
            </a:pr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ĂN CỨ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ÁP DỤNG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8" name="AutoShape 14"/>
            <p:cNvSpPr/>
            <p:nvPr/>
          </p:nvSpPr>
          <p:spPr>
            <a:xfrm>
              <a:off x="3048120" y="2362320"/>
              <a:ext cx="457200" cy="3809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20600 h 3809880"/>
                <a:gd name="textAreaBottom" fmla="*/ 368928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93"/>
                    <a:pt x="10800" y="2186"/>
                  </a:cubicBezTo>
                  <a:lnTo>
                    <a:pt x="10800" y="8614"/>
                  </a:lnTo>
                  <a:cubicBezTo>
                    <a:pt x="10800" y="9707"/>
                    <a:pt x="5400" y="10800"/>
                    <a:pt x="0" y="10800"/>
                  </a:cubicBezTo>
                  <a:cubicBezTo>
                    <a:pt x="5400" y="10800"/>
                    <a:pt x="10800" y="11893"/>
                    <a:pt x="10800" y="12986"/>
                  </a:cubicBezTo>
                  <a:lnTo>
                    <a:pt x="10800" y="19414"/>
                  </a:lnTo>
                  <a:cubicBezTo>
                    <a:pt x="10800" y="20507"/>
                    <a:pt x="16200" y="21600"/>
                    <a:pt x="21600" y="21600"/>
                  </a:cubicBezTo>
                </a:path>
              </a:pathLst>
            </a:cu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29" name="AutoShape 15"/>
            <p:cNvSpPr/>
            <p:nvPr/>
          </p:nvSpPr>
          <p:spPr>
            <a:xfrm>
              <a:off x="5943600" y="1219320"/>
              <a:ext cx="457200" cy="3809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06920 h 3809880"/>
                <a:gd name="textAreaBottom" fmla="*/ 370296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9"/>
                    <a:pt x="10800" y="1937"/>
                  </a:cubicBezTo>
                  <a:lnTo>
                    <a:pt x="10800" y="8863"/>
                  </a:lnTo>
                  <a:cubicBezTo>
                    <a:pt x="10800" y="9832"/>
                    <a:pt x="5400" y="10800"/>
                    <a:pt x="0" y="10800"/>
                  </a:cubicBezTo>
                  <a:cubicBezTo>
                    <a:pt x="5400" y="10800"/>
                    <a:pt x="10800" y="11769"/>
                    <a:pt x="10800" y="12737"/>
                  </a:cubicBezTo>
                  <a:lnTo>
                    <a:pt x="10800" y="19663"/>
                  </a:lnTo>
                  <a:cubicBezTo>
                    <a:pt x="10800" y="20632"/>
                    <a:pt x="16200" y="21600"/>
                    <a:pt x="21600" y="21600"/>
                  </a:cubicBezTo>
                </a:path>
              </a:pathLst>
            </a:custGeom>
            <a:solidFill>
              <a:srgbClr val="000029"/>
            </a:solidFill>
            <a:ln w="5724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Horizontal Scroll 13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 CĂN CỨ BAN HÀNH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7934-4132-4C47-BF8A-D46613765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794C-2E45-4DAF-A512-090A99A8D7A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218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ứng minh quyền hạn của chủ thể ban hành Q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Horizontal Scroll 6"/>
          <p:cNvSpPr/>
          <p:nvPr/>
        </p:nvSpPr>
        <p:spPr>
          <a:xfrm>
            <a:off x="304920" y="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. CĂN CỨ BAN HÀNH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7" name="Horizontal Scroll 7"/>
          <p:cNvSpPr/>
          <p:nvPr/>
        </p:nvSpPr>
        <p:spPr>
          <a:xfrm>
            <a:off x="380880" y="762120"/>
            <a:ext cx="51055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THẨM QUYỀ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7200" y="335268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sở pháp lý sử dụng trong nội dung điều chỉnh của QĐ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Horizontal Scroll 9"/>
          <p:cNvSpPr/>
          <p:nvPr/>
        </p:nvSpPr>
        <p:spPr>
          <a:xfrm>
            <a:off x="380880" y="2666880"/>
            <a:ext cx="41911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ÁP DỤ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518148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kiện hoặc cơ sở thực tiễn để ban hành QĐ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1" name="Horizontal Scroll 11"/>
          <p:cNvSpPr/>
          <p:nvPr/>
        </p:nvSpPr>
        <p:spPr>
          <a:xfrm>
            <a:off x="380880" y="4495680"/>
            <a:ext cx="41911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ĂN CỨ THỰC TẾ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B91B-4CE7-4C1F-97E4-264B97F67F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A615-3AD7-40F4-A76E-CAA1447F8B6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(ngày có hiệu lực của Quyết định; người có trách nhiệm thi hành Quyết địn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Horizontal Scroll 6"/>
          <p:cNvSpPr/>
          <p:nvPr/>
        </p:nvSpPr>
        <p:spPr>
          <a:xfrm>
            <a:off x="380880" y="76320"/>
            <a:ext cx="83059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457200" y="1066680"/>
            <a:ext cx="8229600" cy="17528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nâng lương, khen thưở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 Điều) 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5770-6BEF-4F67-9BDC-F98C58DDE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4CAB-2295-432A-9695-38ED632E78D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lương, phụ cấp, trợ cấ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Horizontal Scroll 6"/>
          <p:cNvSpPr/>
          <p:nvPr/>
        </p:nvSpPr>
        <p:spPr>
          <a:xfrm>
            <a:off x="380880" y="76320"/>
            <a:ext cx="83059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57200" y="1066680"/>
            <a:ext cx="8229600" cy="17528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bổ nhiệm, điều động,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 thôi việc (3 điều):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ECHNICAL DRAFTING &amp; PRESENTING OFFICIAL DOCUMEN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79CA-D7D5-4865-BAC4-ED2CD54F1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3A5F-DD78-40E8-BA59-F4DCAF6515E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Minus 6"/>
          <p:cNvSpPr/>
          <p:nvPr/>
        </p:nvSpPr>
        <p:spPr>
          <a:xfrm>
            <a:off x="2590920" y="1676520"/>
            <a:ext cx="388620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BF23-1611-48C1-8216-462D5E0B9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0456-5EB2-4B8B-B875-8BC3C9F1D94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hành vi, đối tượng, mức độ và thời gian điều chỉ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chức năng, nhiệm vụ, quyền hạn của tổ chứ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cơ cấu tổ chức, nhân sự của tổ chứ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4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. NỘI DUNG ĐIỀU CHỈNH (3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57200" y="914400"/>
            <a:ext cx="82296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ẾT ĐỊ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/v thành lập tổ chức, đơn vị (4 điều) 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0506-0C98-456D-8A3B-81C2FC27E9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EF9D-6B6C-408D-AE1E-DDF8C940142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nâng lương, khen thưở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ÁM ĐỐC CÔNG 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9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1769-4E11-40C9-BBF7-E4A0EA55AF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DAE5-6C87-46A7-8529-B404F9551AD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44C5-DFD8-43A6-A251-5DC095B8E4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8F80-B28D-4613-B9B6-4345192EDC0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0" y="1676520"/>
            <a:ext cx="914400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ổ nhiệm, điều động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GIÁM ĐỐC CÔNG TY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Quy định về lương và phụ cấ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0" y="0"/>
            <a:ext cx="3657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ÔNG TY TNHH HÒA BÌ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GĐ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3657600" y="0"/>
            <a:ext cx="54864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57200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ÁM ĐỐ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0" y="5867280"/>
            <a:ext cx="4572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0796-7489-4896-9710-C3E80CCFA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47E3-FFD7-47CB-A0A8-068EC9672C7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6B22-2999-4AEB-9AB1-9C9A7E64E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4A2B-E26D-42F1-934F-B2541F1846D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8722-8E80-4A02-B6F2-F024C3859D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4ED-8C33-4912-BB58-66746D5C288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1676520"/>
            <a:ext cx="91440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ề việc thành lập tổ chức, đơn vị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ẩm quyền;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áp dụng;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thực tế,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ẾT ĐỊNH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1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hành vi, đối tượng, mức độ, thời gian điều chỉ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2: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chức năng, nhiệm vụ của tổ chức được thành lậ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3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về cơ cấu tổ chức, nhân sự của tổ chức được thành lập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4: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iều khoản thi hành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3657600" y="2438280"/>
            <a:ext cx="18288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0"/>
            <a:ext cx="3657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ÊN TỔ CHỨC BAN HÀNH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:        /QĐ-…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657600" y="0"/>
            <a:ext cx="5486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ỘNG HÒA XÃ HỘI CHỦ NGHĨA VIỆT NAM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ộc lập – Tự do – Hạnh phúc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ịa danh, ngày …… tháng …… năm …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914400" y="609480"/>
            <a:ext cx="175248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572000" y="5791320"/>
            <a:ext cx="4572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ỨC VỤ NGƯỜI KÝ</a:t>
            </a:r>
            <a:endParaRPr b="0" lang="en-US" sz="21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0" y="5791320"/>
            <a:ext cx="4572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ơi nhận: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………………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. ;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80000"/>
              </a:lnSpc>
              <a:buClr>
                <a:srgbClr val="00002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T, PHC (3).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800600" y="914400"/>
            <a:ext cx="3200400" cy="0"/>
          </a:xfrm>
          <a:prstGeom prst="line">
            <a:avLst/>
          </a:prstGeom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DC57-17FB-4948-A2B8-20FFEE0B4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1D3A-96CA-4112-9468-65660059A3F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98" name="Picture 2" descr="http://dolisa.org/hr/store/1900-2010-qd-ubnd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http://cement-t.com.vn/file_download/di328-20100323.jpg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35B6-67FE-424A-88E8-7F0DA1CAB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7C52-4055-44DA-BD5F-01BD6A21EF9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02" name="Picture 2" descr="http://www.phuhunggia.com/sites/default/files/image/BoNhiemTGD/Quy%E1%BA%BFt%20%C4%91%E1%BB%8Bnh%20b%E1%BB%95%20nhi%E1%BB%87m%20T%E1%BB%95ng%20Gi%C3%A1m%20%C4%91%E1%BB%91c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http://www.motilenct.com.vn/newpage/vi/All_Pic/QDinh_BoNhiem_TGD_2012.jpg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Multiply 5"/>
          <p:cNvSpPr/>
          <p:nvPr/>
        </p:nvSpPr>
        <p:spPr>
          <a:xfrm>
            <a:off x="7543800" y="228600"/>
            <a:ext cx="12952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E061-F0EC-4D62-889A-46C1592CF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D124-78F5-4174-9AEC-9BC3F25E9D5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◙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oạn Quyết định bổ nhiệm Trưởng Phòng Kinh doanh của Giám đốc Công ty TNHH Hòa B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-4428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ÀI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7772400" y="54100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6120"/>
            <a:ext cx="9144000" cy="7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064A-24FE-43A4-844D-A4D1DFCB8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8961-9631-47DA-B1D8-162B4BFDD9C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Horizontal Scroll 5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 OF CHAPTE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438280" y="9907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Decis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438280" y="16765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Notific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438280" y="23623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Repor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38280" y="30481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</a:t>
            </a:r>
            <a:r>
              <a:rPr b="0" lang="en-US" sz="4000" spc="-1" strike="noStrike">
                <a:solidFill>
                  <a:srgbClr val="000000"/>
                </a:solidFill>
                <a:latin typeface="VNI-Times"/>
              </a:rPr>
              <a:t>Proposal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438280" y="37339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Technical recording the Minutes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438280" y="44197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Contrac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438280" y="51055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Dispatch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438280" y="5791320"/>
            <a:ext cx="632484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drafting Letters Personally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Rounded Rectangle 14"/>
          <p:cNvSpPr/>
          <p:nvPr/>
        </p:nvSpPr>
        <p:spPr>
          <a:xfrm>
            <a:off x="457200" y="9907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457200" y="16765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ounded Rectangle 22"/>
          <p:cNvSpPr/>
          <p:nvPr/>
        </p:nvSpPr>
        <p:spPr>
          <a:xfrm>
            <a:off x="457200" y="23623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ounded Rectangle 23"/>
          <p:cNvSpPr/>
          <p:nvPr/>
        </p:nvSpPr>
        <p:spPr>
          <a:xfrm>
            <a:off x="457200" y="30481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Rounded Rectangle 24"/>
          <p:cNvSpPr/>
          <p:nvPr/>
        </p:nvSpPr>
        <p:spPr>
          <a:xfrm>
            <a:off x="457200" y="37339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Rounded Rectangle 25"/>
          <p:cNvSpPr/>
          <p:nvPr/>
        </p:nvSpPr>
        <p:spPr>
          <a:xfrm>
            <a:off x="457200" y="44197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Rounded Rectangle 26"/>
          <p:cNvSpPr/>
          <p:nvPr/>
        </p:nvSpPr>
        <p:spPr>
          <a:xfrm>
            <a:off x="457200" y="51055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Rounded Rectangle 27"/>
          <p:cNvSpPr/>
          <p:nvPr/>
        </p:nvSpPr>
        <p:spPr>
          <a:xfrm>
            <a:off x="457200" y="579132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</a:t>
            </a: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E999-FFC9-400D-81EB-0C2FC76458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3F32-2023-4974-82C3-AA72C50AD7F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828800" y="99036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Quyết địn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Horizontal Scroll 6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CHƯƠ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828800" y="16765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hông báo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828800" y="23623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Tờ trình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28800" y="30481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Báo cáo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828800" y="37339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ghi Biên bả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828800" y="44197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Hợp đồng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28800" y="51055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Công vă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828800" y="5791320"/>
            <a:ext cx="69343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 Đơn thư cá nhân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Rounded Rectangle 14"/>
          <p:cNvSpPr/>
          <p:nvPr/>
        </p:nvSpPr>
        <p:spPr>
          <a:xfrm>
            <a:off x="457200" y="9907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Rounded Rectangle 15"/>
          <p:cNvSpPr/>
          <p:nvPr/>
        </p:nvSpPr>
        <p:spPr>
          <a:xfrm>
            <a:off x="457200" y="16765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Rounded Rectangle 16"/>
          <p:cNvSpPr/>
          <p:nvPr/>
        </p:nvSpPr>
        <p:spPr>
          <a:xfrm>
            <a:off x="457200" y="2362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ounded Rectangle 17"/>
          <p:cNvSpPr/>
          <p:nvPr/>
        </p:nvSpPr>
        <p:spPr>
          <a:xfrm>
            <a:off x="457200" y="30481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Rounded Rectangle 18"/>
          <p:cNvSpPr/>
          <p:nvPr/>
        </p:nvSpPr>
        <p:spPr>
          <a:xfrm>
            <a:off x="457200" y="37339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Rounded Rectangle 19"/>
          <p:cNvSpPr/>
          <p:nvPr/>
        </p:nvSpPr>
        <p:spPr>
          <a:xfrm>
            <a:off x="457200" y="44197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Rounded Rectangle 20"/>
          <p:cNvSpPr/>
          <p:nvPr/>
        </p:nvSpPr>
        <p:spPr>
          <a:xfrm>
            <a:off x="457200" y="51055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Rounded Rectangle 21"/>
          <p:cNvSpPr/>
          <p:nvPr/>
        </p:nvSpPr>
        <p:spPr>
          <a:xfrm>
            <a:off x="457200" y="5791320"/>
            <a:ext cx="12952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3787-CA40-40B0-83E8-F07FF8CB6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3EA7-0416-4693-9738-0E47E5B5666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04B9-4517-4415-BE19-24A190C6B8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2117-3AF8-478D-B554-7B54C4CD7E2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Bevel 3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153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1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Ỹ THUẬT SOẠN THẢO</a:t>
            </a:r>
            <a:endParaRPr b="0" lang="en-US" sz="5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BÀY QUYẾT ĐỊNH</a:t>
            </a:r>
            <a:endParaRPr b="0" lang="en-US" sz="5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Minus 5"/>
          <p:cNvSpPr/>
          <p:nvPr/>
        </p:nvSpPr>
        <p:spPr>
          <a:xfrm>
            <a:off x="3276720" y="1905120"/>
            <a:ext cx="2590560" cy="2286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E25E-2C03-4361-B68B-D4C019B71A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47CA-13E8-49C3-823B-2834F8C5182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ấu trúc của quyết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ẫu quyết đị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ài tập trên lớp: Soạn Quyết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Horizontal Scroll 6"/>
          <p:cNvSpPr/>
          <p:nvPr/>
        </p:nvSpPr>
        <p:spPr>
          <a:xfrm>
            <a:off x="304920" y="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3942-13A7-4D53-8BAF-07C0C778BF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457E-BEFC-45F5-AA8F-0157A9DDA3E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219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y định chế độ, chính sách, nhiệm vụ quyền hạn tổ chức bộ máy nhà nướ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Horizontal Scroll 6"/>
          <p:cNvSpPr/>
          <p:nvPr/>
        </p:nvSpPr>
        <p:spPr>
          <a:xfrm>
            <a:off x="228600" y="0"/>
            <a:ext cx="861048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KHÁI NIỆ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Horizontal Scroll 7"/>
          <p:cNvSpPr/>
          <p:nvPr/>
        </p:nvSpPr>
        <p:spPr>
          <a:xfrm>
            <a:off x="304920" y="9907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QUYẾT ĐỊNH QUY PHẠM PHÁP LUẬ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3048120"/>
          <a:ext cx="8229600" cy="3352680"/>
        </p:xfrm>
        <a:graphic>
          <a:graphicData uri="http://schemas.openxmlformats.org/drawingml/2006/table">
            <a:tbl>
              <a:tblPr/>
              <a:tblGrid>
                <a:gridCol w="2133720"/>
                <a:gridCol w="1371600"/>
                <a:gridCol w="4724280"/>
              </a:tblGrid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Số/Ký hiệ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Trích yếu nội d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6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04/03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 Về việc mua, bán vàng miếng trên thị trườ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  trong nước của Ngân hàng Nhà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05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5/01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Quy định việc công dân Việt Nam ra nước ngoài học tập</a:t>
                      </a:r>
                      <a:r>
                        <a:rPr b="0" lang="vi-VN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5/2013/QĐ-T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23/02/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 Về tín dụng đối với hộ cận nghèo</a:t>
                      </a:r>
                      <a:r>
                        <a:rPr b="0" lang="en-US" sz="20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50/2012/QĐ-UB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14/11/20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29"/>
                          </a:solidFill>
                          <a:latin typeface="Times New Roman"/>
                          <a:ea typeface="Times New Roman"/>
                        </a:rPr>
                        <a:t>Ban hành Quy định chức năng, nhiệm vụ, quyền hạn và cơ cấu tổ chức của Sở Kế hoạch và Đầu tư tỉnh Bình Dươ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F5A2-AAA0-4254-85BD-148234860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8535-8D52-4D6D-B3C1-455F27A7090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3C99-A19B-42FA-B103-342385C61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A93E-6E92-4969-B499-13A3ECB2B945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0" name="Picture 2" descr="http://tapchihuongnghiep.com.vn/Pictures/Gallery/Large/Quyet-dinh-1.gif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http://www.uct.edu.vn/sites/default/files/tinhdchung/DSC_3239.JPG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23T03:20:11Z</dcterms:modified>
  <cp:revision>397</cp:revision>
  <dc:subject/>
  <dc:title>Chương 9.1</dc:title>
</cp:coreProperties>
</file>